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A23E-8C77-492D-9365-E5AEC819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D5B-FCF9-4283-9D74-F49A8204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7BB-F97E-4B3B-A9EA-4E525694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39B-5E66-4006-9AAA-B7AA5101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A84-1CE7-4AE0-85F9-22504341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A05-9603-44F9-BF1F-BFDBF9E0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305-E5A0-494C-8836-4E9B31DB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D4E-3B21-4C1F-8832-7493385C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315-3C93-4444-A44D-F60D4DA3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940-4068-430F-B722-2C61C737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A6C-C3DA-4554-9901-760A70E4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3BB-D33E-4B80-BB4A-394FE183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6E36-A501-40F9-9136-0F4D40136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54864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Alissa Tam and Bridget Dur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ussian rivers run from south to north making their use difficult during the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rts are covered in snow and 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5Z</dcterms:created>
  <dc:creator>Student</dc:creator>
  <dc:description/>
  <dc:language>en-US</dc:language>
  <cp:lastModifiedBy>Student</cp:lastModifiedBy>
  <dcterms:modified xsi:type="dcterms:W3CDTF">2010-12-14T15:38:04Z</dcterms:modified>
  <cp:revision>2</cp:revision>
  <dc:subject/>
  <dc:title>Movement</dc:title>
</cp:coreProperties>
</file>